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5ABF3-A4D7-4EA6-8544-6026794444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B4C63-874E-4081-841F-65EA73A964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2CD1B-E63F-4ED2-8F18-7B4919551A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647EB-D383-4C01-BF45-4A04E16300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5F4A1-C8DF-4CC9-B0F0-0CEB1721F7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930BC-AD2A-45DE-B56F-AF8F87B40A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4FC143-C684-4819-905C-BA3C22E383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EAC208-D717-4CC4-9A97-AF8539BE5E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27B88A-5429-43ED-94DA-DA65C9381E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FA8276-779C-4482-A768-E0C7F29201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2358A7-64DF-4B02-8B4A-2CEB3EF5F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568AEB-9798-4AC5-AE4E-65D9F3990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BB28E8-DD8F-4DC1-8680-CE39D1DCC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2FB30F-E0E7-410B-BFA4-BCDB424CB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DCFA21-35C7-41F1-819B-074C056BA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5273DE-7D18-4A0B-A681-59E558B37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520743-9C7A-43A4-A3F4-BCE8579E6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6860EC-9C0C-42A9-8F5E-5E996B434B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7B0E11-465B-4720-B371-DA78B3B6C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879E33-C3CD-418A-8096-964DB3978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757A40-F76B-4910-9FFE-5562B41C5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D99CFE-F595-4208-85CD-CD3B748B7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325F9C-796C-48DA-915B-5FB56B548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DFBDDD-BF66-4351-AE35-9A6F3E1FCF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8EA8AB-E019-4E0C-A867-4E6C7883CD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CEC963-4013-4C8B-9920-FAD3771431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AF5A44-0084-4494-85FD-7A28D32DD7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9CC960-040B-47B6-9185-D77F15DD4B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B46D22-3543-4E83-8180-F884AC4D77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3FB1B1-4BE0-423A-9319-0B9A674068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0BEF5-55CB-40E5-AE92-CF3AD92EA66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CFED0-7D24-4E2D-AA83-30EBE35AF1F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Case Study: Impact of not having an inventor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532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Scenario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 large reference laboratory asked for urgent reagent assistance, mainly related to diarrhoeal diseases. Requested reagents were s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External Laboratory Assessment Fin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uring a follow-up mission in the program, the laboratory “stockroom” was visited. Faced with the enormous stock observed, an inventory was carried out during the mi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5B06B6-1AA2-46A2-98C9-87039ABAF77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Case Study: Impact of not having an inventor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53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Find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 inventory had not been done for several y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o one knew what was available in the stock ro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urgently requested reagents were present, half of which were still usable, the other half had expi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Outco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creased reagent cost, time spent by the laboratory to contact donors, time spent by donor’s office to order the reag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oss of funds and time, roughly 3-week delay, analyses stopped meanwhile in the coun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F4B6FA-D5F9-477B-9DD1-6422ABC2FA4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Object 2"/>
          <p:cNvGraphicFramePr/>
          <p:nvPr/>
        </p:nvGraphicFramePr>
        <p:xfrm>
          <a:off x="5118120" y="1758960"/>
          <a:ext cx="4025880" cy="45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8120" y="1758960"/>
                    <a:ext cx="4025880" cy="45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7" name="Group 3"/>
          <p:cNvGrpSpPr/>
          <p:nvPr/>
        </p:nvGrpSpPr>
        <p:grpSpPr>
          <a:xfrm>
            <a:off x="152280" y="533520"/>
            <a:ext cx="8842320" cy="5905440"/>
            <a:chOff x="152280" y="533520"/>
            <a:chExt cx="8842320" cy="5905440"/>
          </a:xfrm>
        </p:grpSpPr>
        <p:pic>
          <p:nvPicPr>
            <p:cNvPr id="118" name="Picture 4" descr=""/>
            <p:cNvPicPr/>
            <p:nvPr/>
          </p:nvPicPr>
          <p:blipFill>
            <a:blip r:embed="rId3"/>
            <a:stretch/>
          </p:blipFill>
          <p:spPr>
            <a:xfrm>
              <a:off x="152280" y="533520"/>
              <a:ext cx="8842320" cy="577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Rectangle 5"/>
            <p:cNvSpPr/>
            <p:nvPr/>
          </p:nvSpPr>
          <p:spPr>
            <a:xfrm>
              <a:off x="8381880" y="6286680"/>
              <a:ext cx="53352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6"/>
            <p:cNvSpPr/>
            <p:nvPr/>
          </p:nvSpPr>
          <p:spPr>
            <a:xfrm>
              <a:off x="8153280" y="6299280"/>
              <a:ext cx="81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152280" y="25909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2280" y="28954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3526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280" y="32767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280" y="35812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2280" y="39625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280" y="42670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52280" y="4648320"/>
            <a:ext cx="1067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52280" y="49528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52280" y="53341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52280" y="56386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200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228240" y="38862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151920" y="45720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228240" y="52578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151920" y="594360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2514600"/>
            <a:ext cx="0" cy="3809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1295280"/>
            <a:ext cx="12193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3FD376-C958-4823-9FB8-4291D1BFB2F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187200" y="990720"/>
            <a:ext cx="8823600" cy="471492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3"/>
          <p:cNvSpPr/>
          <p:nvPr/>
        </p:nvSpPr>
        <p:spPr>
          <a:xfrm>
            <a:off x="8305920" y="6381720"/>
            <a:ext cx="533160" cy="247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14400" y="1295280"/>
            <a:ext cx="13716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228783-8D13-484B-A96F-325F09F50DD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5152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360" y="3580920"/>
            <a:ext cx="7086600" cy="1752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Example of a specialized program:Soflab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7690B-6ED3-46C3-9BD3-344A074BF7B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20:57:34Z</dcterms:created>
  <dc:creator>Robin Barteluk</dc:creator>
  <dc:description/>
  <dc:language>en-US</dc:language>
  <cp:lastModifiedBy>Robin Barteluk</cp:lastModifiedBy>
  <dcterms:modified xsi:type="dcterms:W3CDTF">2008-11-22T05:50:09Z</dcterms:modified>
  <cp:revision>9</cp:revision>
  <dc:subject/>
  <dc:title>Discussion: The Problem</dc:title>
</cp:coreProperties>
</file>